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bomb.wav" ContentType="audio/x-wav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335-F319-4E57-91CB-02E1687C3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E9A-DE48-425E-ACCE-20FCC3CA89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A18-50D1-4F80-9975-6F4A6C00C3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0336-71EB-4726-AF83-F3D19EAFE2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D053-5BF2-4F70-92E4-B3EA480DC8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602-3B96-4BDA-8E12-A16BBF529C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E744-1024-42C2-A041-C19721C86C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BC3-5288-4236-9A4D-32B334A8C0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139-21E4-4281-A67E-69D96AE278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D78-B5D6-4520-93F1-781691FF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6AE-0E06-4A09-9132-D9C9683E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3A5-2FCA-409C-BCA7-4AB2232E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26F-069B-449A-B620-CD1B0D1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C64A-B4BA-43CC-9B0A-E96AF26E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C0CB-E8A6-4FC5-AA14-53975C9C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65DA-3E01-4909-A905-6345427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9483-BC67-4554-B65D-EF74607C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4BAB-3B2B-4935-8CA5-554CB19B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AC9-3FAC-437A-9433-5B003053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522-6DC4-4BB8-A49D-377C2BA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534-828E-41E7-AC04-8AEEDB7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998C-BCD6-4553-9218-C446790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637-A27F-41E5-94FA-D8A28C7F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E7E-7693-4FDD-937E-2A78F0B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224-1AA3-44C4-BBA3-FEB1C49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70E-113B-4A64-832D-8D316CB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57F-268E-423C-AD2D-B120FDD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65D-F5D1-43E9-B058-AE055F9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5B5-A27D-43A5-8EA4-D69A4512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BEF-6F49-4717-9AD1-4DDC899E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9B7-FF9E-4A0F-9AF8-083EF74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30-55D3-453B-8846-DCE6A96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2BB-DD38-4FD0-A55C-8B5E53EB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371E-0513-4840-A4B9-95C2CABA0E63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449-A763-434E-A9CD-522033EBE18F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ess who it 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828800" y="32004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subject is musi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Music"/>
          <p:cNvSpPr/>
          <p:nvPr/>
        </p:nvSpPr>
        <p:spPr>
          <a:xfrm>
            <a:off x="2895480" y="1066680"/>
            <a:ext cx="5562720" cy="4172040"/>
          </a:xfrm>
          <a:prstGeom prst="pie">
            <a:avLst/>
          </a:prstGeom>
          <a:solidFill>
            <a:srgbClr val="da1f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490205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book is invention of Hugo cabar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3505320" y="2362320"/>
            <a:ext cx="49528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place is the fridgirat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food is chocolate moo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would like to meet Elv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am afraid of Go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want to be a millionaire wh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1752480" y="2535120"/>
            <a:ext cx="4641840" cy="4659480"/>
          </a:xfrm>
          <a:prstGeom prst="rect">
            <a:avLst/>
          </a:prstGeom>
          <a:ln w="0">
            <a:noFill/>
          </a:ln>
        </p:spPr>
      </p:pic>
      <p:sp>
        <p:nvSpPr>
          <p:cNvPr id="122" name="Smiley Face 4"/>
          <p:cNvSpPr/>
          <p:nvPr/>
        </p:nvSpPr>
        <p:spPr>
          <a:xfrm>
            <a:off x="6095880" y="4267080"/>
            <a:ext cx="228600" cy="152640"/>
          </a:xfrm>
          <a:prstGeom prst="smileyFace">
            <a:avLst>
              <a:gd name="adj" fmla="val 9282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6Z</dcterms:created>
  <dc:creator> pc#17</dc:creator>
  <dc:description/>
  <dc:language>en-US</dc:language>
  <cp:lastModifiedBy> pc#17</cp:lastModifiedBy>
  <dcterms:modified xsi:type="dcterms:W3CDTF">2009-11-12T20:05:02Z</dcterms:modified>
  <cp:revision>12</cp:revision>
  <dc:subject/>
  <dc:title>Who am i</dc:title>
</cp:coreProperties>
</file>